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ACA-C900-4206-B106-792E4008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C6F-B4E5-4BF8-BD6B-764DA749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C82-E807-49B3-BAA5-2BD9BD25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AF5-82A5-4C1E-B992-812F2D4A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4EB-D8C7-4339-8AA1-8B48475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6F2-A318-462F-80FF-5F6B4109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2AE-AB80-4069-8ACC-F9576CB4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818-3C51-4842-9FF1-251FDEBC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4B2-A8AE-4501-8DF6-64365F00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D7F-8F84-4496-8EEC-E0741B5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E6D-F269-4E8F-9C27-3A99FC9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A54-63F3-4976-87C0-FCF14D3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BS_PPoint4x3Purple_TLlog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192-1E0A-4D57-BFB7-4BD9FA548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llcode.com/admin-pollcode.cgi?PTw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online instructors and assessing their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ubtitle 3"/>
          <p:cNvSpPr/>
          <p:nvPr/>
        </p:nvSpPr>
        <p:spPr>
          <a:xfrm>
            <a:off x="1143000" y="1600200"/>
            <a:ext cx="7010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Barb@altasolutionsgrou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cdossin@p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mason48@comcas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ll – what are you hoping to gain from this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llcode.com/admin-pollcode.cgi?P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PBS Teacher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, graduate level courses (scheduled, facilitated, asynchronous)  for PreK–12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, certified facilitators lead more than 90 top-quality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-week courses that span the entir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experts collaborated to develop courses of the highest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BS_PPoint4x3Purple_TL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 ~ Recru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ilitators have Master’s Degree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online learning experience either as facilitator or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by local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ass TL Online Facilitator Training regardless of previou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acilit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 national facilitators that facilitate one or more course(s)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lf have been teaching online at least 5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6.3% of our facilitators have a CAS/EdS or Ph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1% facilitate course for other online provid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% have experience as online learn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Training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rofessional learning community (F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faculty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cilitator 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urses (OFT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urse Review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/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I and II 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rating cover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or Compet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 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rate TeacherLine’s PD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rate facilitators’ performance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have few unmet learning needs related to onlin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positioned PBS TeacherLine’s PD as demonstrating innovation and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5:10:43Z</dcterms:created>
  <dc:creator>Christine Kellmurray</dc:creator>
  <dc:description/>
  <dc:language>en-US</dc:language>
  <cp:lastModifiedBy>Matt Wicks</cp:lastModifiedBy>
  <dcterms:modified xsi:type="dcterms:W3CDTF">2010-11-14T05:16:50Z</dcterms:modified>
  <cp:revision>16</cp:revision>
  <dc:subject/>
  <dc:title>PowerPoint Presentation</dc:title>
</cp:coreProperties>
</file>